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E7F-D221-4DA9-B782-B47B30CD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2E8-E10D-4BE1-BFE2-80C9B017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819-145F-4654-8A78-69ECAB87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AAC-5BE0-468B-BA91-1AD01B18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34D-9B17-4BB0-AF05-49499817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2C1-D2DF-4625-8330-53B8B4D9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201-99DD-40AF-A71E-41338E23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E1F-1098-4192-B92E-82A664D5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07F-7DF6-49F6-886A-ABC2806C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73F-70F3-4021-ADB7-645B5CEA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114-F821-4177-BAA3-4A0961EA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18C-8A5D-4A5D-8BFA-82EA6383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30EB-AB35-4216-913D-99813A4D02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I008c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굴림"/>
              </a:rPr>
              <a:t>위 치 표 현</a:t>
            </a:r>
            <a:br>
              <a:rPr sz="4800"/>
            </a:br>
            <a:r>
              <a:rPr b="1" lang="zh-CN" sz="4800" spc="-1" strike="noStrike">
                <a:solidFill>
                  <a:srgbClr val="000099"/>
                </a:solidFill>
                <a:latin typeface="굴림"/>
                <a:ea typeface="돋움"/>
              </a:rPr>
              <a:t>なにが　ありますか どこに　ありますか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6172200"/>
            <a:ext cx="31244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광명북고    한은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6684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266840" y="870120"/>
            <a:ext cx="51181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  </a:t>
            </a:r>
            <a:r>
              <a:rPr b="0" lang="en-US" sz="30300" spc="-1" strike="noStrike">
                <a:solidFill>
                  <a:srgbClr val="000000"/>
                </a:solidFill>
                <a:latin typeface="굴림"/>
                <a:ea typeface="한컴바탕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그림 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방안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UNI008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081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28440"/>
          <a:ext cx="9144000" cy="682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440"/>
                    <a:ext cx="914400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04920" y="990720"/>
            <a:ext cx="3352680" cy="83808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つくえが あります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990720"/>
            <a:ext cx="350532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テレビ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6000000">
            <a:off x="2196360" y="4280760"/>
            <a:ext cx="852480" cy="34164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돋움"/>
                <a:ea typeface="돋움"/>
              </a:rPr>
              <a:t>はこが　ありま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4038480"/>
            <a:ext cx="3962520" cy="9144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テーブルが　あります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294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2016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UNI0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28600"/>
            <a:ext cx="3429000" cy="53352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돋움"/>
                <a:ea typeface="돋움"/>
              </a:rPr>
              <a:t>ちずが　ありま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1066320" y="3123720"/>
            <a:ext cx="312444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돋움"/>
                <a:ea typeface="돋움"/>
              </a:rPr>
              <a:t>ねこが　いま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286000"/>
            <a:ext cx="312408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いぬが　い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905120"/>
            <a:ext cx="3809880" cy="121896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レビの　ま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ぬが　い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838080" y="3048120"/>
            <a:ext cx="3657600" cy="91440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すの　う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ねこが　い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73320" y="84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273320" y="846000"/>
            <a:ext cx="5089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  </a:t>
            </a:r>
            <a:r>
              <a:rPr b="0" lang="en-US" sz="30600" spc="-1" strike="noStrike">
                <a:solidFill>
                  <a:srgbClr val="000000"/>
                </a:solidFill>
                <a:latin typeface="굴림"/>
                <a:ea typeface="한컴바탕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그림 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방안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UNI008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124080" cy="83808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ボール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343400"/>
            <a:ext cx="289584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かさ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3886200"/>
            <a:ext cx="3581280" cy="12952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ーブルの　う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かさ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-228600" y="533520"/>
            <a:ext cx="3657600" cy="114300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つくえの　う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ボール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4800240" y="227880"/>
            <a:ext cx="335268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とけい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08160" y="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UNI008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800000">
            <a:off x="2590560" y="4495680"/>
            <a:ext cx="3733560" cy="106704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ーブルの　したに　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ぬが　い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838080" y="5790960"/>
            <a:ext cx="3276720" cy="53316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カメラ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609480" y="5638680"/>
            <a:ext cx="4191120" cy="9907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はこの　なかに　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カメラ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752480" y="3352680"/>
            <a:ext cx="3657600" cy="60984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スケート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1676520" y="3200040"/>
            <a:ext cx="3962160" cy="10666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ねこの　ま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　スケート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284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UNI0096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97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95280" y="1371600"/>
            <a:ext cx="3200400" cy="60948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　いす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143000"/>
            <a:ext cx="3657600" cy="10666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つくえの　よこ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す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28600"/>
            <a:ext cx="381024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しゃしん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0"/>
            <a:ext cx="4572000" cy="114300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レビの　うえ 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　しゃしん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276720"/>
            <a:ext cx="3733920" cy="76176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굴림"/>
                <a:ea typeface="돋움"/>
              </a:rPr>
              <a:t>かばんが　あります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  <a:ea typeface="돋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1800"/>
            <a:ext cx="4191120" cy="12193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ーブルの　うしろ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かばん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3:24:39Z</dcterms:created>
  <dc:creator>박선은</dc:creator>
  <dc:description/>
  <dc:language>en-US</dc:language>
  <cp:lastModifiedBy>박선은</cp:lastModifiedBy>
  <dcterms:modified xsi:type="dcterms:W3CDTF">2004-04-19T10:25:19Z</dcterms:modified>
  <cp:revision>14</cp:revision>
  <dc:subject/>
  <dc:title>PowerPoint 프레젠테이션</dc:title>
</cp:coreProperties>
</file>